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5.jpeg" ContentType="image/jpeg"/>
  <Override PartName="/ppt/media/image23.png" ContentType="image/png"/>
  <Override PartName="/ppt/media/image21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9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451E-4220-47AC-A6F3-3C820F830B05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B788-D56A-46BD-98CD-07346E69247D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DA2E-F74D-47B8-B9D2-BD2360A97B51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44EB-966A-4FCF-BEE3-38EDF9D5B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6085-2D81-4D74-A1B7-88ABF0FF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891D-1E90-4AA1-99E5-AEE80B4E6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2486-EC29-4E18-8EBD-1E94476A2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89BA0-BB19-4FA7-A87E-AECBBD1A6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F7A2-C4FD-4D30-8571-61115F90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14AD1-291A-4B41-908C-696E1327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B535B-B9B1-477B-81B2-751F04FE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D47A-99C3-4B73-B82B-2EDF2DB5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4274-1B91-450F-B0FA-F0576A83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46031-4C0F-47C4-9FC1-27257A53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B604-8236-4906-B81F-9651B34B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74AD9-FA85-487C-8EA4-C27A527C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F44E-ED40-4B29-AF5A-DA21001F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4FAA7-2C1B-4B31-9762-8AF0DE21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5430-595C-4F38-8779-CBB5BDF5D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0DBE-929D-4259-856B-638AFEA2B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A6E87-EB06-4DD2-8B76-343FBD68F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9EA36-F059-4825-B160-043B229E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93FDE-C414-44A4-9476-922FF542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FA107-E34B-40E9-A3A4-2FE3943F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E0968-ED7D-4932-A7D0-7233C328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DCBE-41BF-40F3-98A1-1E2FBD77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C2C4F-6661-4FD7-A1F4-DF340130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3E7E1-486A-4AC4-B962-460CE87D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1C75D-8C77-46D0-943F-86249491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59FE5-BC77-457C-8907-E2BF042C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F39AA-CE72-4C40-8FDA-81A21110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47822-5E07-46CA-8F77-A1756295C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0D358-A61D-4303-B3F8-6B0373AD6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27286-2C90-493E-A170-F50D32647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DF2EE-7D8E-481B-8344-29FB434C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FF69D-198C-4CCE-8D85-B7F289B1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9B72-3CBB-43A4-A6DC-FF7B0093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0DD96-4C75-44D9-B8FA-E0151AB1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F5E51-55CA-4BA2-B5AB-43A14769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6B169-F66E-4B14-B57C-9FCF46FB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EC3BF-E465-4542-96D1-6D45C343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AD611-3249-4035-9780-DA2A7C29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DAA5D-08AD-4314-A8B4-D27FDC99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057AA-4DB0-4C8C-B6DD-28D888D5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2D606-0EFB-4D5F-9EF7-7CA8FC074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DF934-934A-4016-A57C-211A5BB68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C39C1-6171-4CF5-B660-B2B25780E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FD43-EA67-4FAE-BA7E-092DC1C6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9F839-E7B5-4FEE-82EC-3012A5F2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2B42C-3402-48CF-88C8-6D4ABFAE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CB237-A78D-476E-A0FA-1C7355C6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39131-2C44-4CF4-9C1C-69D29BBF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79E3A-AE1B-4920-ABE9-DF9FD875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2628E-B442-4AB1-9E98-7DEB595D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60E06-F17A-46CF-83A0-FEAE56F0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0E8B0-772A-477F-9A79-89296A16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11F14-CC45-4D46-9413-FF2FC267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20AFF-95B3-4D18-B386-41AC334BF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AC95-251A-4F33-951A-29BD6711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253C9-B1EF-42F8-BF3E-8FFED861C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CA199-9535-447C-A616-CDDECD12E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6888F-BC81-44B7-8407-FEDCBD06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3D5B0-88BE-469D-8AFB-0974A739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BF6ED-25B3-4F2A-B60A-032DC56B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5812C-DBA6-43F7-B0F3-713701EA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A686F-9D66-488B-B907-FA30AD12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10253-7995-4210-B1A1-96F21B2A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F9EE9-6D2B-402A-8994-6C441EC8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18489-1F56-454A-9773-99EF417E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4F35-D896-4DC6-AC26-AA090164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1E01D-F265-458F-9033-91811F1D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A38BD-F9AA-404A-B4B5-8D11A054F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AE862-CE10-4DA8-8FB4-03553EB00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420D-36CD-4394-A6E1-9DBC9E26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EA3E-E1BD-4011-91CB-36F8E22A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1 Forma libre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15 Forma libre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f6fc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009d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0bd0d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10cf9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a1b4b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F7B6-80B2-4C27-9737-A2317817B844}" type="slidenum">
              <a:rPr b="0" lang="es-MX" sz="1000" spc="-1" strike="noStrike">
                <a:solidFill>
                  <a:srgbClr val="a1b4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6 Forma libre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7 Forma libre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f6fc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009d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0bd0d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10cf9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a1b4b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592AC-09FF-4BA9-9D69-3606FC9CA697}" type="slidenum">
              <a:rPr b="0" lang="es-MX" sz="1000" spc="-1" strike="noStrike">
                <a:solidFill>
                  <a:srgbClr val="a1b4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6 Forma libre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8 Forma libre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f6fc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009d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0bd0d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10cf9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a1b4b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8289-67E7-4175-BC3E-C1F2089C23D9}" type="slidenum">
              <a:rPr b="0" lang="es-MX" sz="1000" spc="-1" strike="noStrike">
                <a:solidFill>
                  <a:srgbClr val="a1b4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f6fc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009d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0bd0d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10cf9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a1b4b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D819-D728-407F-AC46-E78C24D65010}" type="slidenum">
              <a:rPr b="0" lang="es-MX" sz="1000" spc="-1" strike="noStrike">
                <a:solidFill>
                  <a:srgbClr val="a1b4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11 Forma libre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15 Forma libre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f6fc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009d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0bd0d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10cf9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a1b4b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3B74-114F-4DE4-800C-F94254DA4687}" type="slidenum">
              <a:rPr b="0" lang="es-MX" sz="1000" spc="-1" strike="noStrike">
                <a:solidFill>
                  <a:srgbClr val="a1b4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f6fc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009d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0bd0d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10cf9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a1b4b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7734-A968-4886-81DB-1610052E3ABC}" type="slidenum">
              <a:rPr b="0" lang="es-MX" sz="1000" spc="-1" strike="noStrike">
                <a:solidFill>
                  <a:srgbClr val="a1b4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image" Target="../media/image21.jpeg"/><Relationship Id="rId13" Type="http://schemas.openxmlformats.org/officeDocument/2006/relationships/image" Target="../media/image22.jpeg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wmf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3.wmf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"/>
          <p:cNvSpPr/>
          <p:nvPr/>
        </p:nvSpPr>
        <p:spPr>
          <a:xfrm>
            <a:off x="1042920" y="476280"/>
            <a:ext cx="691380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59aaf2"/>
                </a:solidFill>
                <a:latin typeface="Arial"/>
              </a:rPr>
              <a:t>    </a:t>
            </a:r>
            <a:r>
              <a:rPr b="1" lang="es-MX" sz="3600" spc="-1" strike="noStrike">
                <a:solidFill>
                  <a:srgbClr val="59aaf2"/>
                </a:solidFill>
                <a:latin typeface="Broadway"/>
              </a:rPr>
              <a:t>METODODOLOGIA ESTUDIO DE CA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55a839"/>
                </a:solidFill>
                <a:latin typeface="Arial"/>
              </a:rPr>
              <a:t>     “</a:t>
            </a:r>
            <a:r>
              <a:rPr b="1" lang="es-MX" sz="2200" spc="-1" strike="noStrike">
                <a:solidFill>
                  <a:srgbClr val="55a839"/>
                </a:solidFill>
                <a:latin typeface="Arial"/>
              </a:rPr>
              <a:t>Como partir de lo general hacia lo particul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55a839"/>
                </a:solidFill>
                <a:latin typeface="Arial"/>
              </a:rPr>
              <a:t>                   </a:t>
            </a:r>
            <a:r>
              <a:rPr b="1" lang="es-MX" sz="2200" spc="-1" strike="noStrike">
                <a:solidFill>
                  <a:srgbClr val="55a839"/>
                </a:solidFill>
                <a:latin typeface="Arial"/>
              </a:rPr>
              <a:t>Hasta llegar a una conclusión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1" lang="es-MX" sz="2200" spc="-1" strike="noStrike">
                <a:solidFill>
                  <a:srgbClr val="55a839"/>
                </a:solidFill>
                <a:latin typeface="Arial"/>
              </a:rPr>
              <a:t>Método Harvar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3"/>
          <p:cNvSpPr/>
          <p:nvPr/>
        </p:nvSpPr>
        <p:spPr>
          <a:xfrm>
            <a:off x="324000" y="325440"/>
            <a:ext cx="84247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59aaf2"/>
                </a:solidFill>
                <a:latin typeface="Iskoola Pota"/>
                <a:ea typeface="Iskoola Pota"/>
              </a:rPr>
              <a:t>a).-  Marco estructural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Elementos conceptuales para el Análisis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De un problema o situación o desvi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35"/>
          <p:cNvSpPr/>
          <p:nvPr/>
        </p:nvSpPr>
        <p:spPr>
          <a:xfrm>
            <a:off x="5364000" y="14130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36"/>
          <p:cNvSpPr/>
          <p:nvPr/>
        </p:nvSpPr>
        <p:spPr>
          <a:xfrm>
            <a:off x="5651640" y="3716280"/>
            <a:ext cx="1873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33 Diagrama" descr=""/>
          <p:cNvPicPr/>
          <p:nvPr/>
        </p:nvPicPr>
        <p:blipFill>
          <a:blip r:embed="rId1"/>
          <a:stretch/>
        </p:blipFill>
        <p:spPr>
          <a:xfrm>
            <a:off x="457200" y="1122480"/>
            <a:ext cx="802152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3651120" y="312840"/>
            <a:ext cx="170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20c9f8"/>
                </a:solidFill>
                <a:uFillTx/>
                <a:latin typeface="Arial"/>
              </a:rPr>
              <a:t>Proces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324000" y="1017720"/>
          <a:ext cx="8785080" cy="5364000"/>
        </p:xfrm>
        <a:graphic>
          <a:graphicData uri="http://schemas.openxmlformats.org/drawingml/2006/table">
            <a:tbl>
              <a:tblPr/>
              <a:tblGrid>
                <a:gridCol w="878508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 </a:t>
                      </a: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1.- </a:t>
                      </a:r>
                      <a:r>
                        <a:rPr b="0" lang="es-MX" sz="2000" spc="-1" strike="noStrike">
                          <a:solidFill>
                            <a:srgbClr val="5ef0f7"/>
                          </a:solidFill>
                          <a:latin typeface="Franklin Gothic Book"/>
                          <a:ea typeface="Arial"/>
                        </a:rPr>
                        <a:t>Analizar</a:t>
                      </a: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 el </a:t>
                      </a:r>
                      <a:r>
                        <a:rPr b="0" lang="es-MX" sz="2000" spc="-1" strike="noStrike">
                          <a:solidFill>
                            <a:srgbClr val="5ef0f7"/>
                          </a:solidFill>
                          <a:latin typeface="Franklin Gothic Book"/>
                          <a:ea typeface="Arial"/>
                        </a:rPr>
                        <a:t>material de estudio</a:t>
                      </a: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 </a:t>
                      </a: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2.- Lectura del caso y antecedentes: marcar o </a:t>
                      </a:r>
                      <a:r>
                        <a:rPr b="0" lang="es-MX" sz="2000" spc="-1" strike="noStrike">
                          <a:solidFill>
                            <a:srgbClr val="5ef0f7"/>
                          </a:solidFill>
                          <a:latin typeface="Franklin Gothic Book"/>
                          <a:ea typeface="Arial"/>
                        </a:rPr>
                        <a:t>subrayar datos importantes</a:t>
                      </a: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 </a:t>
                      </a: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3.- Sacar un 1er. Resumen: </a:t>
                      </a:r>
                      <a:r>
                        <a:rPr b="0" lang="es-MX" sz="2000" spc="-1" strike="noStrike">
                          <a:solidFill>
                            <a:srgbClr val="5ef0f7"/>
                          </a:solidFill>
                          <a:latin typeface="Franklin Gothic Book"/>
                          <a:ea typeface="Arial"/>
                        </a:rPr>
                        <a:t>ubicar el problema</a:t>
                      </a: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 </a:t>
                      </a: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4.- Releer el caso: </a:t>
                      </a:r>
                      <a:r>
                        <a:rPr b="0" lang="es-MX" sz="2000" spc="-1" strike="noStrike">
                          <a:solidFill>
                            <a:srgbClr val="5ef0f7"/>
                          </a:solidFill>
                          <a:latin typeface="Franklin Gothic Book"/>
                          <a:ea typeface="Arial"/>
                        </a:rPr>
                        <a:t>marcar hecho relevantes</a:t>
                      </a: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 </a:t>
                      </a: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5.- Preparar un 2o resumen: </a:t>
                      </a:r>
                      <a:r>
                        <a:rPr b="0" lang="es-MX" sz="2000" spc="-1" strike="noStrike">
                          <a:solidFill>
                            <a:srgbClr val="5ef0f7"/>
                          </a:solidFill>
                          <a:latin typeface="Franklin Gothic Book"/>
                          <a:ea typeface="Arial"/>
                        </a:rPr>
                        <a:t>eliminar duplicidades datos </a:t>
                      </a: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irrelevante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 </a:t>
                      </a: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6.- Dar forma a tu propuesta: </a:t>
                      </a:r>
                      <a:r>
                        <a:rPr b="0" lang="es-MX" sz="2000" spc="-1" strike="noStrike">
                          <a:solidFill>
                            <a:srgbClr val="5ef0f7"/>
                          </a:solidFill>
                          <a:latin typeface="Franklin Gothic Book"/>
                          <a:ea typeface="Arial"/>
                        </a:rPr>
                        <a:t>análisis</a:t>
                      </a: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 aplicando </a:t>
                      </a:r>
                      <a:r>
                        <a:rPr b="0" lang="es-MX" sz="2000" spc="-1" strike="noStrike">
                          <a:solidFill>
                            <a:srgbClr val="5ef0f7"/>
                          </a:solidFill>
                          <a:latin typeface="Franklin Gothic Book"/>
                          <a:ea typeface="Arial"/>
                        </a:rPr>
                        <a:t>actitud interrogante</a:t>
                      </a: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 </a:t>
                      </a: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7.- </a:t>
                      </a:r>
                      <a:r>
                        <a:rPr b="0" lang="es-MX" sz="2000" spc="-1" strike="noStrike">
                          <a:solidFill>
                            <a:srgbClr val="5ef0f7"/>
                          </a:solidFill>
                          <a:latin typeface="Franklin Gothic Book"/>
                          <a:ea typeface="Arial"/>
                        </a:rPr>
                        <a:t>Documentar la propuesta</a:t>
                      </a: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: datos, cifras indicadores de medición et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 </a:t>
                      </a: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8.- </a:t>
                      </a:r>
                      <a:r>
                        <a:rPr b="0" lang="es-MX" sz="2000" spc="-1" strike="noStrike">
                          <a:solidFill>
                            <a:srgbClr val="5ef0f7"/>
                          </a:solidFill>
                          <a:latin typeface="Franklin Gothic Book"/>
                          <a:ea typeface="Arial"/>
                        </a:rPr>
                        <a:t>Presentar</a:t>
                      </a: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 al equipo </a:t>
                      </a:r>
                      <a:r>
                        <a:rPr b="0" lang="es-MX" sz="2000" spc="-1" strike="noStrike">
                          <a:solidFill>
                            <a:srgbClr val="5ef0f7"/>
                          </a:solidFill>
                          <a:latin typeface="Franklin Gothic Book"/>
                          <a:ea typeface="Arial"/>
                        </a:rPr>
                        <a:t>la propuesta para análisis </a:t>
                      </a: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y discusión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 </a:t>
                      </a: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9.- </a:t>
                      </a:r>
                      <a:r>
                        <a:rPr b="0" lang="es-MX" sz="2000" spc="-1" strike="noStrike">
                          <a:solidFill>
                            <a:srgbClr val="5ef0f7"/>
                          </a:solidFill>
                          <a:latin typeface="Franklin Gothic Book"/>
                          <a:ea typeface="Arial"/>
                        </a:rPr>
                        <a:t>Preparar consenso </a:t>
                      </a: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con tu equipo: tomar en cuenta diferentes perspectivas, criterios y experiencias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10.-</a:t>
                      </a:r>
                      <a:r>
                        <a:rPr b="0" lang="es-MX" sz="2000" spc="-1" strike="noStrike">
                          <a:solidFill>
                            <a:srgbClr val="5ef0f7"/>
                          </a:solidFill>
                          <a:latin typeface="Franklin Gothic Book"/>
                          <a:ea typeface="Arial"/>
                        </a:rPr>
                        <a:t>Elaborar</a:t>
                      </a: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 un </a:t>
                      </a:r>
                      <a:r>
                        <a:rPr b="0" lang="es-MX" sz="2000" spc="-1" strike="noStrike">
                          <a:solidFill>
                            <a:srgbClr val="5ef0f7"/>
                          </a:solidFill>
                          <a:latin typeface="Franklin Gothic Book"/>
                          <a:ea typeface="Arial"/>
                        </a:rPr>
                        <a:t>resumen del caso: </a:t>
                      </a: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consenso del equipo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11.-Presentación ante un consejo o reunión  plenaria: </a:t>
                      </a:r>
                      <a:r>
                        <a:rPr b="0" lang="es-MX" sz="2000" spc="-1" strike="noStrike">
                          <a:solidFill>
                            <a:srgbClr val="5ef0f7"/>
                          </a:solidFill>
                          <a:latin typeface="Franklin Gothic Book"/>
                          <a:ea typeface="Arial"/>
                        </a:rPr>
                        <a:t>exposición para debate.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12.-Sacar de cada </a:t>
                      </a:r>
                      <a:r>
                        <a:rPr b="0" lang="es-MX" sz="2000" spc="-1" strike="noStrike">
                          <a:solidFill>
                            <a:srgbClr val="5ef0f7"/>
                          </a:solidFill>
                          <a:latin typeface="Franklin Gothic Book"/>
                          <a:ea typeface="Arial"/>
                        </a:rPr>
                        <a:t>presentación tu propio resumen que será tu aprendizaje  </a:t>
                      </a: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(nuevos conocimientos, actitud analítica y creativa)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AutoShape 2"/>
          <p:cNvSpPr/>
          <p:nvPr/>
        </p:nvSpPr>
        <p:spPr>
          <a:xfrm rot="5400000">
            <a:off x="2771280" y="-531720"/>
            <a:ext cx="3673440" cy="7705800"/>
          </a:xfrm>
          <a:prstGeom prst="triangle">
            <a:avLst>
              <a:gd name="adj" fmla="val 51954"/>
            </a:avLst>
          </a:prstGeom>
          <a:solidFill>
            <a:srgbClr val="0f6fc6"/>
          </a:solidFill>
          <a:ln w="936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59aaf2"/>
                </a:solidFill>
                <a:latin typeface="Iskoola Pota"/>
                <a:ea typeface="Iskoola Pota"/>
              </a:rPr>
              <a:t>                                 </a:t>
            </a:r>
            <a:r>
              <a:rPr b="1" lang="es-ES" sz="3200" spc="-1" strike="noStrike">
                <a:solidFill>
                  <a:srgbClr val="59aaf2"/>
                </a:solidFill>
                <a:latin typeface="Iskoola Pota"/>
                <a:ea typeface="Iskoola Pota"/>
              </a:rPr>
              <a:t>Ejemplo de formato tipo banderí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parte de lo general                  a lo particular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826920" y="1268280"/>
            <a:ext cx="1008360" cy="648000"/>
          </a:xfrm>
          <a:prstGeom prst="rect">
            <a:avLst/>
          </a:prstGeom>
          <a:solidFill>
            <a:srgbClr val="7030a0"/>
          </a:solidFill>
          <a:ln w="9360">
            <a:solidFill>
              <a:srgbClr val="c8e3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Datos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Hech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2195640" y="1557360"/>
            <a:ext cx="1224000" cy="647640"/>
          </a:xfrm>
          <a:prstGeom prst="rect">
            <a:avLst/>
          </a:prstGeom>
          <a:solidFill>
            <a:srgbClr val="7030a0"/>
          </a:solidFill>
          <a:ln w="9360">
            <a:solidFill>
              <a:srgbClr val="c8e3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Hech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important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3708360" y="1844640"/>
            <a:ext cx="1295280" cy="647640"/>
          </a:xfrm>
          <a:prstGeom prst="rect">
            <a:avLst/>
          </a:prstGeom>
          <a:solidFill>
            <a:srgbClr val="7030a0"/>
          </a:solidFill>
          <a:ln w="9360">
            <a:solidFill>
              <a:srgbClr val="c8e3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Análisis..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5219640" y="2133720"/>
            <a:ext cx="1440000" cy="647640"/>
          </a:xfrm>
          <a:prstGeom prst="rect">
            <a:avLst/>
          </a:prstGeom>
          <a:solidFill>
            <a:srgbClr val="7030a0"/>
          </a:solidFill>
          <a:ln w="9360">
            <a:solidFill>
              <a:srgbClr val="c8e3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Resumen; síntes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Conclusion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8"/>
          <p:cNvSpPr/>
          <p:nvPr/>
        </p:nvSpPr>
        <p:spPr>
          <a:xfrm>
            <a:off x="6877080" y="2709720"/>
            <a:ext cx="1295280" cy="648000"/>
          </a:xfrm>
          <a:prstGeom prst="rect">
            <a:avLst/>
          </a:prstGeom>
          <a:solidFill>
            <a:srgbClr val="7030a0"/>
          </a:solidFill>
          <a:ln w="9360">
            <a:solidFill>
              <a:srgbClr val="c8e3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Plan, programa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responsables.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"/>
          <p:cNvSpPr/>
          <p:nvPr/>
        </p:nvSpPr>
        <p:spPr>
          <a:xfrm>
            <a:off x="1459080" y="333360"/>
            <a:ext cx="656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59aaf2"/>
                </a:solidFill>
                <a:latin typeface="Iskoola Pota"/>
                <a:ea typeface="Iskoola Pota"/>
              </a:rPr>
              <a:t>FORMATO, DATOS  E INFORMACION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324000" y="1052640"/>
            <a:ext cx="873108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andara"/>
              </a:rPr>
              <a:t>Metodología desarrollada  en la Universidad Harvard;  Boston Massachset, USA.  Adoptada en  México por el IPADE  y  U.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andara"/>
              </a:rPr>
              <a:t>En los años 60as’, para el manejo efectivo de la comunicación y función Directiva; (Managment) y se ha venido perfeccionando a través del tiempo como documento de juntas y reuniones ejecutivas porque facilita  la toma de decisiones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Object 4" descr=""/>
          <p:cNvPicPr/>
          <p:nvPr/>
        </p:nvPicPr>
        <p:blipFill>
          <a:blip r:embed="rId1"/>
          <a:stretch/>
        </p:blipFill>
        <p:spPr>
          <a:xfrm>
            <a:off x="179280" y="3343320"/>
            <a:ext cx="8785440" cy="2894040"/>
          </a:xfrm>
          <a:prstGeom prst="rect">
            <a:avLst/>
          </a:prstGeom>
          <a:ln w="1260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2 Imagen" descr=""/>
          <p:cNvPicPr/>
          <p:nvPr/>
        </p:nvPicPr>
        <p:blipFill>
          <a:blip r:embed="rId1"/>
          <a:srcRect l="0" t="0" r="0" b="13707"/>
          <a:stretch/>
        </p:blipFill>
        <p:spPr>
          <a:xfrm>
            <a:off x="611280" y="692280"/>
            <a:ext cx="7799400" cy="51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428760" y="1265400"/>
            <a:ext cx="8515080" cy="5187960"/>
          </a:xfrm>
          <a:prstGeom prst="rect">
            <a:avLst/>
          </a:prstGeom>
          <a:ln w="0">
            <a:noFill/>
          </a:ln>
        </p:spPr>
      </p:pic>
      <p:sp>
        <p:nvSpPr>
          <p:cNvPr id="323" name="7 CuadroTexto"/>
          <p:cNvSpPr/>
          <p:nvPr/>
        </p:nvSpPr>
        <p:spPr>
          <a:xfrm>
            <a:off x="2411280" y="333360"/>
            <a:ext cx="46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fceff"/>
                </a:solidFill>
                <a:latin typeface="Franklin Gothic Book"/>
              </a:rPr>
              <a:t>Ejemplo de Metodología de Caso, PEM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8 CuadroTexto"/>
          <p:cNvSpPr/>
          <p:nvPr/>
        </p:nvSpPr>
        <p:spPr>
          <a:xfrm>
            <a:off x="7164360" y="6524640"/>
            <a:ext cx="16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e5f4e0"/>
                </a:solidFill>
                <a:latin typeface="Arial"/>
              </a:rPr>
              <a:t>Continúa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"/>
          <p:cNvPicPr/>
          <p:nvPr/>
        </p:nvPicPr>
        <p:blipFill>
          <a:blip r:embed="rId1"/>
          <a:stretch/>
        </p:blipFill>
        <p:spPr>
          <a:xfrm>
            <a:off x="101520" y="1989000"/>
            <a:ext cx="8934480" cy="2551320"/>
          </a:xfrm>
          <a:prstGeom prst="rect">
            <a:avLst/>
          </a:prstGeom>
          <a:ln w="0">
            <a:noFill/>
          </a:ln>
        </p:spPr>
      </p:pic>
      <p:sp>
        <p:nvSpPr>
          <p:cNvPr id="326" name="2 CuadroTexto"/>
          <p:cNvSpPr/>
          <p:nvPr/>
        </p:nvSpPr>
        <p:spPr>
          <a:xfrm>
            <a:off x="2411280" y="438120"/>
            <a:ext cx="46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fceff"/>
                </a:solidFill>
                <a:latin typeface="Franklin Gothic Book"/>
              </a:rPr>
              <a:t>Ejemplo de Metodología de Caso, PEM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21"/>
          <p:cNvSpPr/>
          <p:nvPr/>
        </p:nvSpPr>
        <p:spPr>
          <a:xfrm>
            <a:off x="179280" y="536400"/>
            <a:ext cx="8893440" cy="61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59aaf2"/>
                </a:solidFill>
                <a:latin typeface="Iskoola Pota"/>
                <a:ea typeface="Iskoola Pota"/>
              </a:rPr>
              <a:t>Reglas para la exposición en sesión plenar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edir la palabra levantando la mano; ( respeto a quien tenga la palab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otivar la participación de todos.( siempre tenemos algo qu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prender de los demá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entar al tímido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o temer a Equivocars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o temer a que nos pregunte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trolar al audaz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piciar la discusión ordenada y respetuosa;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r precisos concisos y objetivo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Juega  Roll. del Moderador .- No resuelve los casos, revira las opiniones y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troalimenta información.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Picture 2" descr="http://sillabusadm2biblio.bloges.org/img/exposicion.jpg"/>
          <p:cNvPicPr/>
          <p:nvPr/>
        </p:nvPicPr>
        <p:blipFill>
          <a:blip r:embed="rId12"/>
          <a:stretch/>
        </p:blipFill>
        <p:spPr>
          <a:xfrm>
            <a:off x="5435640" y="2421000"/>
            <a:ext cx="2205000" cy="16524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4" descr="http://t1.gstatic.com/images?q=tbn:0EEh0wIc6TQbuM:http://www.farmaciacarol.com/assets/images/preguntas.gif"/>
          <p:cNvPicPr/>
          <p:nvPr/>
        </p:nvPicPr>
        <p:blipFill>
          <a:blip r:embed="rId13"/>
          <a:stretch/>
        </p:blipFill>
        <p:spPr>
          <a:xfrm>
            <a:off x="7451640" y="3284640"/>
            <a:ext cx="146052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0" name=""/>
          <p:cNvGraphicFramePr/>
          <p:nvPr/>
        </p:nvGraphicFramePr>
        <p:xfrm>
          <a:off x="1042920" y="692280"/>
          <a:ext cx="7128000" cy="2385720"/>
        </p:xfrm>
        <a:graphic>
          <a:graphicData uri="http://schemas.openxmlformats.org/drawingml/2006/table">
            <a:tbl>
              <a:tblPr/>
              <a:tblGrid>
                <a:gridCol w="7128000"/>
              </a:tblGrid>
              <a:tr h="253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3200" spc="-1" strike="noStrike">
                          <a:solidFill>
                            <a:srgbClr val="008000"/>
                          </a:solidFill>
                          <a:latin typeface="Iskoola Pota"/>
                          <a:ea typeface="Iskoola Pota"/>
                        </a:rPr>
                        <a:t>"Todo esfuerzo tiene su recompensa“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3200" spc="-1" strike="noStrike">
                          <a:solidFill>
                            <a:srgbClr val="99ff66"/>
                          </a:solidFill>
                          <a:latin typeface="Iskoola Pota"/>
                          <a:ea typeface="Iskoola Pota"/>
                        </a:rPr>
                        <a:t>   </a:t>
                      </a:r>
                      <a:r>
                        <a:rPr b="1" lang="es-MX" sz="3200" spc="-1" strike="noStrike">
                          <a:solidFill>
                            <a:srgbClr val="99ff66"/>
                          </a:solidFill>
                          <a:latin typeface="Iskoola Pota"/>
                          <a:ea typeface="Iskoola Pota"/>
                        </a:rPr>
                        <a:t>(crecer, aprender más y comparti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3200" spc="-1" strike="noStrike">
                          <a:solidFill>
                            <a:srgbClr val="99ff66"/>
                          </a:solidFill>
                          <a:latin typeface="Iskoola Pota"/>
                          <a:ea typeface="Iskoola Pota"/>
                        </a:rPr>
                        <a:t>                   </a:t>
                      </a:r>
                      <a:r>
                        <a:rPr b="1" lang="es-MX" sz="3200" spc="-1" strike="noStrike">
                          <a:solidFill>
                            <a:srgbClr val="99ff66"/>
                          </a:solidFill>
                          <a:latin typeface="Iskoola Pota"/>
                          <a:ea typeface="Iskoola Pota"/>
                        </a:rPr>
                        <a:t>con los demás)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1" name="Picture 4" descr="http://fulvida.com/wp-content/uploads/recompensa2.jpg"/>
          <p:cNvPicPr/>
          <p:nvPr/>
        </p:nvPicPr>
        <p:blipFill>
          <a:blip r:embed="rId1"/>
          <a:stretch/>
        </p:blipFill>
        <p:spPr>
          <a:xfrm>
            <a:off x="2889360" y="3279600"/>
            <a:ext cx="290808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4"/>
          <p:cNvSpPr/>
          <p:nvPr/>
        </p:nvSpPr>
        <p:spPr>
          <a:xfrm>
            <a:off x="3216960" y="1197000"/>
            <a:ext cx="23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0c9f8"/>
                </a:solidFill>
                <a:latin typeface="Arial"/>
              </a:rPr>
              <a:t>Bibliografía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395280" y="2060640"/>
            <a:ext cx="8137440" cy="33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0c9f8"/>
                </a:solidFill>
                <a:latin typeface="Iskoola Pota"/>
                <a:ea typeface="Iskoola Pota"/>
              </a:rPr>
              <a:t>Metodología Estudio de caso.-U. Harvard; / IPADE / Universidad Panamericana de México, A.C.; Carlos Llano Cifuentes; [Mc-Graw Hill-IPADE]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0c9f8"/>
                </a:solidFill>
                <a:latin typeface="Iskoola Pota"/>
                <a:ea typeface="Iskoola Pota"/>
              </a:rPr>
              <a:t>Apuntes Proceso, Formatos y ejemplos de Estudio de caso; Autor Lic. Jaime G. Sánchez 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0c9f8"/>
                </a:solidFill>
                <a:latin typeface="Iskoola Pota"/>
                <a:ea typeface="Iskoola Pota"/>
              </a:rPr>
              <a:t>Revistas Expansión sobre el tema metodología Estudio de caso [2002/2005]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0" y="115920"/>
            <a:ext cx="8682120" cy="67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64"/>
          <p:cNvSpPr/>
          <p:nvPr/>
        </p:nvSpPr>
        <p:spPr>
          <a:xfrm>
            <a:off x="1766520" y="2997360"/>
            <a:ext cx="44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fceff"/>
                </a:solidFill>
                <a:latin typeface="Arial"/>
              </a:rPr>
              <a:t>Objetiva, concreta y propositi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70"/>
          <p:cNvSpPr/>
          <p:nvPr/>
        </p:nvSpPr>
        <p:spPr>
          <a:xfrm>
            <a:off x="1190880" y="3933720"/>
            <a:ext cx="217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55a839"/>
                </a:solidFill>
                <a:latin typeface="Arial"/>
              </a:rPr>
              <a:t>Anteced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95"/>
          <p:cNvSpPr/>
          <p:nvPr/>
        </p:nvSpPr>
        <p:spPr>
          <a:xfrm>
            <a:off x="539640" y="4683240"/>
            <a:ext cx="8136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écnica y herramienta desarrollada en la Universidad de Harvard USA , para  estudiar y sintetizar casos, y situaciones reales.</a:t>
            </a:r>
            <a:r>
              <a:rPr b="0" lang="es-E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mportada a  México por su filial  IPADE que se encargo de diseminarla y compartirla  en Universidades  y  empresas  por su exitoso método .</a:t>
            </a:r>
            <a:r>
              <a:rPr b="0" lang="es-E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5 CuadroTexto"/>
          <p:cNvSpPr/>
          <p:nvPr/>
        </p:nvSpPr>
        <p:spPr>
          <a:xfrm>
            <a:off x="611280" y="1846440"/>
            <a:ext cx="57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 el proceso para dar a la luz  hechos, análisis,  evaluación y síntesis de casos estudio y situaciones reales, en forma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6 CuadroTexto" descr=""/>
          <p:cNvPicPr/>
          <p:nvPr/>
        </p:nvPicPr>
        <p:blipFill>
          <a:blip r:embed="rId1"/>
          <a:stretch/>
        </p:blipFill>
        <p:spPr>
          <a:xfrm>
            <a:off x="536400" y="311040"/>
            <a:ext cx="7139160" cy="17305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" descr="http://es.dreamstime.com/criba-estudio-de-caso-junto-thumb244134.jpg"/>
          <p:cNvPicPr/>
          <p:nvPr/>
        </p:nvPicPr>
        <p:blipFill>
          <a:blip r:embed="rId2"/>
          <a:stretch/>
        </p:blipFill>
        <p:spPr>
          <a:xfrm>
            <a:off x="6705720" y="1981080"/>
            <a:ext cx="199368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1"/>
          <p:cNvSpPr/>
          <p:nvPr/>
        </p:nvSpPr>
        <p:spPr>
          <a:xfrm>
            <a:off x="324000" y="765000"/>
            <a:ext cx="85690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ff3ca"/>
                </a:solidFill>
                <a:latin typeface="Arial"/>
              </a:rPr>
              <a:t>Identificar hechos relevant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; comentarios y datos importantes; Análisis de información  y hechos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ff3ca"/>
                </a:solidFill>
                <a:latin typeface="Arial"/>
              </a:rPr>
              <a:t>Resume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, síntesis, </a:t>
            </a:r>
            <a:r>
              <a:rPr b="0" lang="es-ES" sz="2000" spc="-1" strike="noStrike">
                <a:solidFill>
                  <a:srgbClr val="5ff3ca"/>
                </a:solidFill>
                <a:latin typeface="Arial"/>
              </a:rPr>
              <a:t>propuest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decisiones y recomendaciones: designación de responsables y fechas de ejecución.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36"/>
          <p:cNvSpPr/>
          <p:nvPr/>
        </p:nvSpPr>
        <p:spPr>
          <a:xfrm>
            <a:off x="324000" y="292428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ff3ca"/>
                </a:solidFill>
                <a:latin typeface="Arial"/>
              </a:rPr>
              <a:t>Separar la opinión personal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&gt; de los problemas y su jerarquía -&gt; ejecutar fase de análisis y </a:t>
            </a:r>
            <a:r>
              <a:rPr b="1" lang="es-ES" sz="2000" spc="-1" strike="noStrike">
                <a:solidFill>
                  <a:srgbClr val="5ff3ca"/>
                </a:solidFill>
                <a:latin typeface="Arial"/>
              </a:rPr>
              <a:t>concebir  soluciones posib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539640" y="4011480"/>
            <a:ext cx="7848720" cy="2715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)    Aprender </a:t>
            </a:r>
            <a:r>
              <a:rPr b="0" lang="es-ES" sz="2000" spc="-1" strike="noStrike">
                <a:solidFill>
                  <a:srgbClr val="59aaf2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Escribir es descubrir.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 </a:t>
            </a:r>
            <a:r>
              <a:rPr b="0" lang="es-ES" sz="2000" spc="-1" strike="noStrike">
                <a:solidFill>
                  <a:srgbClr val="59aaf2"/>
                </a:solidFill>
                <a:latin typeface="Arial"/>
              </a:rPr>
              <a:t>saber transmitir los conocimientos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 ideas a los demá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bemos </a:t>
            </a:r>
            <a:r>
              <a:rPr b="0" lang="es-ES" sz="2000" spc="-1" strike="noStrike">
                <a:solidFill>
                  <a:srgbClr val="59aaf2"/>
                </a:solidFill>
                <a:latin typeface="Arial"/>
              </a:rPr>
              <a:t>de localizar donde están los problemas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  cuando las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mpresas mugen es porque están moribun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59aaf2"/>
                </a:solidFill>
                <a:latin typeface="Arial"/>
              </a:rPr>
              <a:t>Identificar donde les duele  y  a tiemp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, ( diagnostico del         medico como experto en anatomía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Continu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38"/>
          <p:cNvSpPr/>
          <p:nvPr/>
        </p:nvSpPr>
        <p:spPr>
          <a:xfrm>
            <a:off x="7883640" y="6237360"/>
            <a:ext cx="4334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5 Rectángulo" descr=""/>
          <p:cNvPicPr/>
          <p:nvPr/>
        </p:nvPicPr>
        <p:blipFill>
          <a:blip r:embed="rId1"/>
          <a:stretch/>
        </p:blipFill>
        <p:spPr>
          <a:xfrm>
            <a:off x="2664000" y="237960"/>
            <a:ext cx="308448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199"/>
          <p:cNvSpPr/>
          <p:nvPr/>
        </p:nvSpPr>
        <p:spPr>
          <a:xfrm>
            <a:off x="324000" y="404640"/>
            <a:ext cx="4679640" cy="57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59aaf2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9aaf2"/>
                </a:solidFill>
                <a:latin typeface="Arial"/>
              </a:rPr>
              <a:t>Premisa Japonesa</a:t>
            </a:r>
            <a:r>
              <a:rPr b="0" lang="es-ES" sz="1800" spc="-1" strike="noStrike">
                <a:solidFill>
                  <a:srgbClr val="59aaf2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- </a:t>
            </a:r>
            <a:r>
              <a:rPr b="0" lang="es-ES" sz="1800" spc="-1" strike="noStrike">
                <a:solidFill>
                  <a:srgbClr val="59aaf2"/>
                </a:solidFill>
                <a:latin typeface="Arial"/>
              </a:rPr>
              <a:t>es mas fácil copiar, reproducir, mejorar  y optimizar que inventar 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Ejemplo.- que podría yo hacer si fuera responsable de esta empresa    ante un problema determinado ?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)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59aaf2"/>
                </a:solidFill>
                <a:latin typeface="Arial"/>
              </a:rPr>
              <a:t>Fomenta el dialogo y la participación de los involucrados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ajo diferentes enfoques y perspectivas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cluye, determina </a:t>
            </a:r>
            <a:r>
              <a:rPr b="0" lang="es-ES" sz="1800" spc="-1" strike="noStrike">
                <a:solidFill>
                  <a:srgbClr val="59aaf2"/>
                </a:solidFill>
                <a:latin typeface="Arial"/>
              </a:rPr>
              <a:t>y  define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g)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arte de lo </a:t>
            </a:r>
            <a:r>
              <a:rPr b="0" lang="es-ES" sz="1800" spc="-1" strike="noStrike">
                <a:solidFill>
                  <a:srgbClr val="59aaf2"/>
                </a:solidFill>
                <a:latin typeface="Arial"/>
              </a:rPr>
              <a:t>subjetivo a lo objetiv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)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s  </a:t>
            </a:r>
            <a:r>
              <a:rPr b="0" lang="es-ES" sz="1800" spc="-1" strike="noStrike">
                <a:solidFill>
                  <a:srgbClr val="59aaf2"/>
                </a:solidFill>
                <a:latin typeface="Arial"/>
              </a:rPr>
              <a:t>un método san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 de respeto mutuo </a:t>
            </a:r>
            <a:r>
              <a:rPr b="0" lang="es-ES" sz="1800" spc="-1" strike="noStrike">
                <a:solidFill>
                  <a:srgbClr val="59aaf2"/>
                </a:solidFill>
                <a:latin typeface="Arial"/>
              </a:rPr>
              <a:t>para la toma de decisiones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2" descr="http://3.bp.blogspot.com/_SSI3WYmJTUM/SNluSkU9FgI/AAAAAAAAAa0/WCWvQiPCNV0/s400/La+novia+robot.+El+Pa%C3%ADs+17.06.08.jpg"/>
          <p:cNvPicPr/>
          <p:nvPr/>
        </p:nvPicPr>
        <p:blipFill>
          <a:blip r:embed="rId1"/>
          <a:stretch/>
        </p:blipFill>
        <p:spPr>
          <a:xfrm>
            <a:off x="6875640" y="620640"/>
            <a:ext cx="1484280" cy="2019240"/>
          </a:xfrm>
          <a:prstGeom prst="rect">
            <a:avLst/>
          </a:prstGeom>
          <a:ln w="0">
            <a:noFill/>
          </a:ln>
        </p:spPr>
      </p:pic>
      <p:grpSp>
        <p:nvGrpSpPr>
          <p:cNvPr id="276" name="3 Extracto"/>
          <p:cNvGrpSpPr/>
          <p:nvPr/>
        </p:nvGrpSpPr>
        <p:grpSpPr>
          <a:xfrm>
            <a:off x="5425920" y="2554200"/>
            <a:ext cx="2614680" cy="1731960"/>
            <a:chOff x="5425920" y="2554200"/>
            <a:chExt cx="2614680" cy="1731960"/>
          </a:xfrm>
        </p:grpSpPr>
        <p:pic>
          <p:nvPicPr>
            <p:cNvPr id="277" name="3 Extracto" descr=""/>
            <p:cNvPicPr/>
            <p:nvPr/>
          </p:nvPicPr>
          <p:blipFill>
            <a:blip r:embed="rId2"/>
            <a:stretch/>
          </p:blipFill>
          <p:spPr>
            <a:xfrm>
              <a:off x="5425920" y="2554200"/>
              <a:ext cx="261468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 rot="5400000">
              <a:off x="5728320" y="2805840"/>
              <a:ext cx="7794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79" name="Picture 4" descr="http://junior.discapnet.es/img/FichasDidacticas/Orientacion/grafico09.jpg"/>
          <p:cNvPicPr/>
          <p:nvPr/>
        </p:nvPicPr>
        <p:blipFill>
          <a:blip r:embed="rId3"/>
          <a:srcRect l="14386" t="0" r="34590" b="0"/>
          <a:stretch/>
        </p:blipFill>
        <p:spPr>
          <a:xfrm>
            <a:off x="7020000" y="4057560"/>
            <a:ext cx="1944720" cy="2800440"/>
          </a:xfrm>
          <a:prstGeom prst="rect">
            <a:avLst/>
          </a:prstGeom>
          <a:ln w="0">
            <a:noFill/>
          </a:ln>
        </p:spPr>
      </p:pic>
      <p:sp>
        <p:nvSpPr>
          <p:cNvPr id="280" name="6 Rectángulo"/>
          <p:cNvSpPr/>
          <p:nvPr/>
        </p:nvSpPr>
        <p:spPr>
          <a:xfrm>
            <a:off x="6659640" y="4005360"/>
            <a:ext cx="936720" cy="122400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1 CuadroTexto"/>
          <p:cNvSpPr/>
          <p:nvPr/>
        </p:nvSpPr>
        <p:spPr>
          <a:xfrm>
            <a:off x="611280" y="692280"/>
            <a:ext cx="4681440" cy="47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)    </a:t>
            </a:r>
            <a:r>
              <a:rPr b="0" lang="es-ES" sz="1800" spc="-1" strike="noStrike">
                <a:solidFill>
                  <a:srgbClr val="59aaf2"/>
                </a:solidFill>
                <a:latin typeface="Arial"/>
              </a:rPr>
              <a:t>Incrementa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uestro </a:t>
            </a:r>
            <a:r>
              <a:rPr b="0" lang="es-ES" sz="1800" spc="-1" strike="noStrike">
                <a:solidFill>
                  <a:srgbClr val="59aaf2"/>
                </a:solidFill>
                <a:latin typeface="Arial"/>
              </a:rPr>
              <a:t>sentido de comprensión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político, social y económico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j)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59aaf2"/>
                </a:solidFill>
                <a:latin typeface="Arial"/>
              </a:rPr>
              <a:t>Desarroll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nuestra </a:t>
            </a:r>
            <a:r>
              <a:rPr b="0" lang="es-ES" sz="1800" spc="-1" strike="noStrike">
                <a:solidFill>
                  <a:srgbClr val="59aaf2"/>
                </a:solidFill>
                <a:latin typeface="Arial"/>
              </a:rPr>
              <a:t>capacidad  trabajo en equip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 participan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k)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59aaf2"/>
                </a:solidFill>
                <a:latin typeface="Arial"/>
              </a:rPr>
              <a:t>Adquirir una perspectiva de síntesis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n los negocios/ y todo tipo de situaciones o problemas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)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59aaf2"/>
                </a:solidFill>
                <a:latin typeface="Arial"/>
              </a:rPr>
              <a:t>Incrementar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nuestro </a:t>
            </a:r>
            <a:r>
              <a:rPr b="0" lang="es-ES" sz="1800" spc="-1" strike="noStrike">
                <a:solidFill>
                  <a:srgbClr val="59aaf2"/>
                </a:solidFill>
                <a:latin typeface="Arial"/>
              </a:rPr>
              <a:t>conocimiento social, de negociación y relaciones humanas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)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59aaf2"/>
                </a:solidFill>
                <a:latin typeface="Arial"/>
              </a:rPr>
              <a:t>Proponer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59aaf2"/>
                </a:solidFill>
                <a:latin typeface="Arial"/>
              </a:rPr>
              <a:t>ante una sesión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lenaria o grupo nuestras propuestas y  </a:t>
            </a:r>
            <a:r>
              <a:rPr b="0" lang="es-ES" sz="1800" spc="-1" strike="noStrike">
                <a:solidFill>
                  <a:srgbClr val="59aaf2"/>
                </a:solidFill>
                <a:latin typeface="Arial"/>
              </a:rPr>
              <a:t>recomendaciones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2" descr="http://t0.gstatic.com/images?q=tbn:DrgMdhJwDbMcDM:http://www.beneficiomutuo.net/wp-content/uploads/2009/06/colaborar-participar-blogs1.jpg"/>
          <p:cNvPicPr/>
          <p:nvPr/>
        </p:nvPicPr>
        <p:blipFill>
          <a:blip r:embed="rId1"/>
          <a:stretch/>
        </p:blipFill>
        <p:spPr>
          <a:xfrm>
            <a:off x="6516720" y="3789360"/>
            <a:ext cx="2322360" cy="15112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" descr="http://www.elpais.com/recorte/20070402elpepusoc_3/LCO340/Ies/expertos_ONU_cambio_climatico_debaten_medidas_proponer_politicos.jpg"/>
          <p:cNvPicPr/>
          <p:nvPr/>
        </p:nvPicPr>
        <p:blipFill>
          <a:blip r:embed="rId2"/>
          <a:srcRect l="30769" t="0" r="0" b="0"/>
          <a:stretch/>
        </p:blipFill>
        <p:spPr>
          <a:xfrm>
            <a:off x="5435640" y="620640"/>
            <a:ext cx="2305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4"/>
          <p:cNvSpPr/>
          <p:nvPr/>
        </p:nvSpPr>
        <p:spPr>
          <a:xfrm>
            <a:off x="684360" y="189000"/>
            <a:ext cx="72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59aaf2"/>
                </a:solidFill>
                <a:latin typeface="Arial"/>
              </a:rPr>
              <a:t>Aplicar Actitud interroga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1189440" y="666720"/>
            <a:ext cx="5596920" cy="41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1" lang="es-MX" sz="2400" spc="-1" strike="noStrike" u="sng">
                <a:solidFill>
                  <a:srgbClr val="0c9b74"/>
                </a:solidFill>
                <a:uFillTx/>
                <a:latin typeface="Iskoola Pota"/>
                <a:ea typeface="Iskoola Pota"/>
              </a:rPr>
              <a:t>Proceso interroga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Iskoola Pota"/>
                <a:ea typeface="Iskoola Pota"/>
              </a:rPr>
              <a:t>Que….…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Iskoola Pot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Iskoola Pota"/>
                <a:ea typeface="Iskoola Pota"/>
              </a:rPr>
              <a:t>Porque…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Iskoola Pot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Iskoola Pota"/>
                <a:ea typeface="Iskoola Pota"/>
              </a:rPr>
              <a:t>Como…..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Iskoola Pota"/>
                <a:ea typeface="Iskoola Pota"/>
              </a:rPr>
              <a:t>Cuando…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Iskoola Pota"/>
                <a:ea typeface="Iskoola Pota"/>
              </a:rPr>
              <a:t>Quien…….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Iskoola Pota"/>
                <a:ea typeface="Iskoola Pota"/>
              </a:rPr>
              <a:t>Cuanto…..!</a:t>
            </a:r>
            <a:r>
              <a:rPr b="0" lang="es-MX" sz="1800" spc="-1" strike="noStrike">
                <a:solidFill>
                  <a:srgbClr val="ffffff"/>
                </a:solidFill>
                <a:latin typeface="Iskoola Pota"/>
                <a:ea typeface="Iskoola Pota"/>
              </a:rPr>
              <a:t> $ ; #; % (unidad de medició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Object 6" descr=""/>
          <p:cNvPicPr/>
          <p:nvPr/>
        </p:nvPicPr>
        <p:blipFill>
          <a:blip r:embed="rId10"/>
          <a:stretch/>
        </p:blipFill>
        <p:spPr>
          <a:xfrm flipH="1">
            <a:off x="3779640" y="1125360"/>
            <a:ext cx="1879560" cy="215928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7"/>
          <p:cNvSpPr/>
          <p:nvPr/>
        </p:nvSpPr>
        <p:spPr>
          <a:xfrm>
            <a:off x="324000" y="4826160"/>
            <a:ext cx="864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b0dfa1"/>
                </a:solidFill>
                <a:latin typeface="Iskoola Pota"/>
                <a:ea typeface="Iskoola Pota"/>
              </a:rPr>
              <a:t>Todo este proceso nos leva hacia un análisis exhaustivo de la situación, problema, o contingencia y nos permite crear escenarios y/o alternativas de solución</a:t>
            </a:r>
            <a:r>
              <a:rPr b="0" lang="es-MX" sz="1800" spc="-1" strike="noStrike">
                <a:solidFill>
                  <a:srgbClr val="b0dfa1"/>
                </a:solidFill>
                <a:latin typeface="Iskoola Pota"/>
                <a:ea typeface="Iskoola Pot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b0dfa1"/>
                </a:solidFill>
                <a:latin typeface="Iskoola Pota"/>
                <a:ea typeface="Iskoola Pota"/>
              </a:rPr>
              <a:t>Nos facilita la toma de decision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b0dfa1"/>
                </a:solidFill>
                <a:latin typeface="Iskoola Pota"/>
                <a:ea typeface="Iskoola Pota"/>
              </a:rPr>
              <a:t>Recuerden la información es poder y el poder permite tomar buenas decisi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Object 8" descr=""/>
          <p:cNvPicPr/>
          <p:nvPr/>
        </p:nvPicPr>
        <p:blipFill>
          <a:blip r:embed="rId13"/>
          <a:stretch/>
        </p:blipFill>
        <p:spPr>
          <a:xfrm>
            <a:off x="3348000" y="1781280"/>
            <a:ext cx="2803680" cy="19350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8" descr="http://elalmaalaire.blogia.com/upload/20090414162016-gif-interrogante.gif"/>
          <p:cNvPicPr/>
          <p:nvPr/>
        </p:nvPicPr>
        <p:blipFill>
          <a:blip r:embed="rId14"/>
          <a:stretch/>
        </p:blipFill>
        <p:spPr>
          <a:xfrm>
            <a:off x="6156360" y="119700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4"/>
          <p:cNvSpPr/>
          <p:nvPr/>
        </p:nvSpPr>
        <p:spPr>
          <a:xfrm>
            <a:off x="447840" y="784080"/>
            <a:ext cx="801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Problem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Que es Problema……………………………………………………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Descripción  analítica……………………………………………….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826920" y="692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324000" y="692280"/>
            <a:ext cx="79912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55a839"/>
                </a:solidFill>
                <a:latin typeface="Arial"/>
              </a:rPr>
              <a:t>Definición y alcanc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55a83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55a839"/>
                </a:solidFill>
                <a:latin typeface="Arial"/>
              </a:rPr>
              <a:t>Definición del problema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situación diferente a la rutina o aparición síntomas. Se recomienda documentar con información relevante: datos, hechos, cifras, muestras o ejemplos que debe ser listada y clasificada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179280" y="65160"/>
            <a:ext cx="813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59aaf2"/>
                </a:solidFill>
                <a:latin typeface="Iskoola Pota"/>
                <a:ea typeface="Iskoola Pota"/>
              </a:rPr>
              <a:t>Instrumentos en la administración de proyectos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3564000" y="5300640"/>
            <a:ext cx="1727280" cy="1297080"/>
          </a:xfrm>
          <a:prstGeom prst="flowChartAlternateProcess">
            <a:avLst/>
          </a:prstGeom>
          <a:solidFill>
            <a:srgbClr val="10cf9b"/>
          </a:solidFill>
          <a:ln w="19080">
            <a:solidFill>
              <a:srgbClr val="0998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Defini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del proble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5940360" y="5445000"/>
            <a:ext cx="1728720" cy="792360"/>
          </a:xfrm>
          <a:prstGeom prst="flowChartAlternateProcess">
            <a:avLst/>
          </a:pr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Costos, $;%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Cifras; #;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5580000" y="4005360"/>
            <a:ext cx="1728720" cy="720720"/>
          </a:xfrm>
          <a:prstGeom prst="flowChartAlternateProcess">
            <a:avLst/>
          </a:pr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Ejemplo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3780000" y="2708280"/>
            <a:ext cx="1368360" cy="1008000"/>
          </a:xfrm>
          <a:prstGeom prst="flowChartAlternateProcess">
            <a:avLst/>
          </a:pr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Hech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nformació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releva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9"/>
          <p:cNvSpPr/>
          <p:nvPr/>
        </p:nvSpPr>
        <p:spPr>
          <a:xfrm>
            <a:off x="1258920" y="5373720"/>
            <a:ext cx="1512720" cy="719280"/>
          </a:xfrm>
          <a:prstGeom prst="flowChartAlternateProcess">
            <a:avLst/>
          </a:pr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10"/>
          <p:cNvSpPr/>
          <p:nvPr/>
        </p:nvSpPr>
        <p:spPr>
          <a:xfrm>
            <a:off x="1547640" y="4078440"/>
            <a:ext cx="1800360" cy="790560"/>
          </a:xfrm>
          <a:prstGeom prst="flowChartAlternateProcess">
            <a:avLst/>
          </a:pr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síntom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1332000" y="5367240"/>
            <a:ext cx="12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muestr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Line 12"/>
          <p:cNvSpPr/>
          <p:nvPr/>
        </p:nvSpPr>
        <p:spPr>
          <a:xfrm>
            <a:off x="4427640" y="3716280"/>
            <a:ext cx="0" cy="1584360"/>
          </a:xfrm>
          <a:prstGeom prst="line">
            <a:avLst/>
          </a:prstGeom>
          <a:ln w="9360">
            <a:solidFill>
              <a:srgbClr val="38f5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Line 13"/>
          <p:cNvSpPr/>
          <p:nvPr/>
        </p:nvSpPr>
        <p:spPr>
          <a:xfrm>
            <a:off x="3132000" y="4365720"/>
            <a:ext cx="1295640" cy="360360"/>
          </a:xfrm>
          <a:custGeom>
            <a:avLst/>
            <a:gdLst/>
            <a:ahLst/>
            <a:rect l="l" t="t" r="r" b="b"/>
            <a:pathLst>
              <a:path w="1295400" h="360363">
                <a:moveTo>
                  <a:pt x="0" y="0"/>
                </a:moveTo>
                <a:lnTo>
                  <a:pt x="1295400" y="360363"/>
                </a:lnTo>
              </a:path>
            </a:pathLst>
          </a:custGeom>
          <a:noFill/>
          <a:ln w="9360">
            <a:solidFill>
              <a:srgbClr val="38f5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Line 14"/>
          <p:cNvSpPr/>
          <p:nvPr/>
        </p:nvSpPr>
        <p:spPr>
          <a:xfrm flipH="1">
            <a:off x="4426920" y="4437000"/>
            <a:ext cx="1152360" cy="287280"/>
          </a:xfrm>
          <a:custGeom>
            <a:avLst/>
            <a:gdLst/>
            <a:ahLst/>
            <a:rect l="l" t="t" r="r" b="b"/>
            <a:pathLst>
              <a:path w="1223962" h="287338">
                <a:moveTo>
                  <a:pt x="0" y="0"/>
                </a:moveTo>
                <a:lnTo>
                  <a:pt x="1223962" y="287338"/>
                </a:lnTo>
              </a:path>
            </a:pathLst>
          </a:custGeom>
          <a:noFill/>
          <a:ln w="9360">
            <a:solidFill>
              <a:srgbClr val="38f5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Line 15"/>
          <p:cNvSpPr/>
          <p:nvPr/>
        </p:nvSpPr>
        <p:spPr>
          <a:xfrm>
            <a:off x="2843280" y="5661000"/>
            <a:ext cx="718920" cy="216000"/>
          </a:xfrm>
          <a:prstGeom prst="line">
            <a:avLst/>
          </a:prstGeom>
          <a:ln w="9360">
            <a:solidFill>
              <a:srgbClr val="38f5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16"/>
          <p:cNvSpPr/>
          <p:nvPr/>
        </p:nvSpPr>
        <p:spPr>
          <a:xfrm flipH="1">
            <a:off x="5292360" y="5732640"/>
            <a:ext cx="647640" cy="215640"/>
          </a:xfrm>
          <a:prstGeom prst="line">
            <a:avLst/>
          </a:prstGeom>
          <a:ln w="9360">
            <a:solidFill>
              <a:srgbClr val="38f5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14:34:38Z</dcterms:created>
  <dc:creator>Jaime G.Sanchez C.</dc:creator>
  <dc:description/>
  <dc:language>en-US</dc:language>
  <cp:lastModifiedBy> Jaime G.Sanchez C.</cp:lastModifiedBy>
  <dcterms:modified xsi:type="dcterms:W3CDTF">2010-06-18T03:33:13Z</dcterms:modified>
  <cp:revision>37</cp:revision>
  <dc:subject/>
  <dc:title>Diapositiva 1</dc:title>
</cp:coreProperties>
</file>